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100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EA35-4B88-4E5C-9386-0B4B806308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0494-69F7-4277-B5A3-1E2224A46C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CEE0-1578-446C-82F2-CDD28D2C0B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D2D9-5C10-4075-822C-0F12B2A2BA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C121-A02A-40D2-A815-EA098E43CE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DD06-647A-4647-86BA-63E42FF435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E207-57EF-4F84-A752-DF24524018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D534-A0A3-425F-9187-4A84CB82D1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433-CDA4-4858-8509-72A98E5C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4AA-0102-4D13-B495-819BD11C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4E6-E226-47B1-B95B-ABEAAAB6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3EF-94F1-458C-9090-587BF85D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A047-8846-4DB9-B66F-E10A5FFB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3975-D946-42A8-B7EC-6BB5995F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822D-E763-404E-92F5-376BF314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828D-7C2E-4B24-B612-5D7A7342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6F83-3FB1-4FA7-82F1-3E38BEA6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322C-6480-4646-8521-8D153F2E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A8C9-28FF-44D9-92EB-764C77C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F63-EF8F-406C-9BF1-B526ABFA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26E2-4864-480D-97ED-9FA95C69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5153-E908-4841-AF7C-13E346B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0C45-1D47-4C77-870E-DE3D5214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2886-2383-4BF9-84F6-C6CD4275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853C-0AB9-4B01-9E41-427393C7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C0AE-CDF5-4A8E-9353-E894328B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F597-3FA6-4773-80A9-11F100F1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D8A6-1473-4588-AD4D-FCB7F821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98AAE-FC6F-409C-8CC6-28F1B44D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870A1-E71D-4ABD-A16A-9513AC10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EDA-61BD-4788-B08A-96814D00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AECA-8B12-4DA8-9F97-BCAAD5B0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6997-200B-4236-83D0-5C0EB1EA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C9EAB-3826-4CA8-A04C-A7C44DD9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EF0D-8799-4044-A682-5407E762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BEA0-45E4-4B37-9B96-9C1CD17E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B1F4-B4E9-483D-93C4-1CA7AB99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8B1E-BFC7-4097-85DA-042DB50C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242E9-9930-4254-9372-56E2AF24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CA3F-959E-4B4A-B740-D95F31CC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A06C-AA95-442C-BED8-26243141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5F2-55E7-4CA1-8DF1-CE0B73F0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A1A1B-1996-4749-B517-9A9324F3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2AAEC-688D-4BBF-B364-DF446528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EE39-8D32-42A6-BF64-9B2D4E68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1057-93CA-45D3-91F7-433E0E0E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35B5-C6AC-4719-8BDD-62B1F9FD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65459-9AC7-47A5-9711-E9DAAD2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F06A-C611-4F21-96C0-FB09B289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0390E-D3FE-4FED-8BDC-2CCA47AB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AB5E3-6955-4764-B438-07C6E892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FDDAC-50D9-48FC-930E-765E97AC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875-1709-45D9-A84A-D57A5790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D0B70-00A3-4972-9406-D8996E02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C06CA-66A1-4EBA-9AC6-D28E4B1E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9BEF8-5F93-43B5-9AF5-FA998951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415B0-62E8-452A-92D4-4F266CD8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BC69D-6699-4439-80B6-6D8EEB56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1CDFE-C947-4DE8-8686-1964733B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69446-D71A-463A-955B-ACF91463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DFC9D-6924-47DC-9C2D-4AA4E0F4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593EB-94B1-4166-8936-EF597F91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954FF-AB93-4601-BD29-1A91B627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A2E-6F26-44C4-A451-B85422A8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D0464-A47E-43C0-B1FE-08254912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E0C4E-290D-4D44-8777-9435B46D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DF057-9AEE-4042-9901-4D767A83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CECF1-7E1A-46EC-A7B4-98F8A229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B1B3A-09DC-4127-9D74-93444FC5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65CBA-6B34-43E8-B3BC-114880F8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B08F2-D8AD-418F-8D6E-DFD4A458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F85EC-AECA-4A26-9D49-A1ADA15F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DCDC9-849F-4848-B40F-77204571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1C97-DF7E-446E-90C0-8652E7DC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0B5-C649-4FC2-B988-AEFA2B98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49506-09C8-4F62-AF76-1D55899B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8FC09-ACD1-471C-B96E-23CD7802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32883-3670-46A2-8839-8D086C35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A911E-81D6-474E-9380-25AB6A7D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7DBD2-789C-443A-A407-4FD8FE7A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4CBA-44EC-46BB-82F7-04E43AA1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3DE34-8733-4C2E-B97D-E91416A3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F2289-F866-44B9-BF03-7FEFD2FF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4C58B-CD81-477F-82E2-39E20DCD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F7F69-AB53-478C-871A-A9049AB9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ACE-2711-43C9-8563-C7E45DF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4ED72-EF94-44D4-A329-78ABE3CE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25B7D-AFA6-46CF-BB31-F864F442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91626-9491-472E-A348-A8911A36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AA041-915D-4D69-A47C-E952A5CA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57F75-5116-4882-B073-EC635177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F981E-20A9-4543-BC6F-7CBDE47E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4A290-32F6-4575-874B-7480C3DD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CA892-FA82-471A-B85D-8087F624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FEE67-332C-4BB1-BE78-8A9EBADE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DA46C-441B-449F-936B-77A458A2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CE7-D8D5-4940-B1DD-24C27070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87DBD-BEB7-44CB-B4B1-AA4ACEE5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80919-F017-4B57-8742-F7F15A88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36119-8D8B-413E-8D02-07240A59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B79E0-6D0C-49BC-884C-4700F0AC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2289D-CE75-4376-9A27-E41F4D5B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E2CA3-E50C-4048-A5FA-0C1226B3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B6C24-9CE5-45A6-88C1-A2FD11DF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5A54-6944-4918-AB31-8F87946AC2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6D6A-864D-430E-8EE2-3328D020C05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2C9B-7609-416B-844C-0CC53375FEC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F0FC-B0AE-4658-89FE-E29B564484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BD2E-AB4D-48C2-A6C5-E3F6B141D5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1B9B-BB7D-44B0-A426-B833B50DD0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98FB-9169-418D-9B90-AF66272ECF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5776-79E7-46AE-A4F2-39BDD20E00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601200" cy="15670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3" descr="i.jpg"/>
          <p:cNvPicPr/>
          <p:nvPr/>
        </p:nvPicPr>
        <p:blipFill>
          <a:blip r:embed="rId2"/>
          <a:stretch/>
        </p:blipFill>
        <p:spPr>
          <a:xfrm>
            <a:off x="324000" y="2060640"/>
            <a:ext cx="49687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Содержимое 3" descr=""/>
          <p:cNvPicPr/>
          <p:nvPr/>
        </p:nvPicPr>
        <p:blipFill>
          <a:blip r:embed="rId1"/>
          <a:stretch/>
        </p:blipFill>
        <p:spPr>
          <a:xfrm>
            <a:off x="450720" y="1163520"/>
            <a:ext cx="8242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298440" y="328680"/>
            <a:ext cx="8394840" cy="45482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3" descr="iCAWLBUXK.jpg"/>
          <p:cNvPicPr/>
          <p:nvPr/>
        </p:nvPicPr>
        <p:blipFill>
          <a:blip r:embed="rId2"/>
          <a:stretch/>
        </p:blipFill>
        <p:spPr>
          <a:xfrm>
            <a:off x="5148360" y="3933720"/>
            <a:ext cx="35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929040" y="928440"/>
            <a:ext cx="52149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Медианы треугольника пересекаются в одной точке, которая делит каждую медиану в отношении 2:1, считая от вершин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ано: </a:t>
            </a:r>
            <a:r>
              <a:rPr b="1" lang="el-GR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BC; 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,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,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медианы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, AO: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BO: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CO: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2:1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ельство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1=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3=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4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    </a:t>
            </a:r>
            <a:r>
              <a:rPr b="1" lang="el-GR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ABO ~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. AB: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=2→AO: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BO: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2:1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=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тогда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6,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7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8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CB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~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. CB: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=2→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: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=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: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=2:1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Из всего этого следует, что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совпадает с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а значи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, AO: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BO: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CO: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O=2:1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476280" y="-30240"/>
            <a:ext cx="7991280" cy="130968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41"/>
          <p:cNvGrpSpPr/>
          <p:nvPr/>
        </p:nvGrpSpPr>
        <p:grpSpPr>
          <a:xfrm>
            <a:off x="0" y="1214280"/>
            <a:ext cx="3999600" cy="4792680"/>
            <a:chOff x="0" y="1214280"/>
            <a:chExt cx="3999600" cy="4792680"/>
          </a:xfrm>
        </p:grpSpPr>
        <p:sp>
          <p:nvSpPr>
            <p:cNvPr id="384" name="Text Box 32"/>
            <p:cNvSpPr/>
            <p:nvPr/>
          </p:nvSpPr>
          <p:spPr>
            <a:xfrm>
              <a:off x="0" y="5180040"/>
              <a:ext cx="29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cc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Group 40"/>
            <p:cNvGrpSpPr/>
            <p:nvPr/>
          </p:nvGrpSpPr>
          <p:grpSpPr>
            <a:xfrm>
              <a:off x="203400" y="1214280"/>
              <a:ext cx="3796200" cy="4792680"/>
              <a:chOff x="203400" y="1214280"/>
              <a:chExt cx="3796200" cy="4792680"/>
            </a:xfrm>
          </p:grpSpPr>
          <p:sp>
            <p:nvSpPr>
              <p:cNvPr id="386" name="Line 4"/>
              <p:cNvSpPr/>
              <p:nvPr/>
            </p:nvSpPr>
            <p:spPr>
              <a:xfrm flipV="1">
                <a:off x="203400" y="1654560"/>
                <a:ext cx="2333520" cy="359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5"/>
              <p:cNvSpPr/>
              <p:nvPr/>
            </p:nvSpPr>
            <p:spPr>
              <a:xfrm>
                <a:off x="203400" y="5254560"/>
                <a:ext cx="350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8"/>
              <p:cNvSpPr/>
              <p:nvPr/>
            </p:nvSpPr>
            <p:spPr>
              <a:xfrm flipV="1">
                <a:off x="203400" y="3638160"/>
                <a:ext cx="2981160" cy="161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Group 39"/>
              <p:cNvGrpSpPr/>
              <p:nvPr/>
            </p:nvGrpSpPr>
            <p:grpSpPr>
              <a:xfrm>
                <a:off x="554760" y="1214280"/>
                <a:ext cx="3444840" cy="4792680"/>
                <a:chOff x="554760" y="1214280"/>
                <a:chExt cx="3444840" cy="4792680"/>
              </a:xfrm>
            </p:grpSpPr>
            <p:sp>
              <p:nvSpPr>
                <p:cNvPr id="390" name="Line 6"/>
                <p:cNvSpPr/>
                <p:nvPr/>
              </p:nvSpPr>
              <p:spPr>
                <a:xfrm>
                  <a:off x="2540520" y="1654560"/>
                  <a:ext cx="1168200" cy="359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Line 7"/>
                <p:cNvSpPr/>
                <p:nvPr/>
              </p:nvSpPr>
              <p:spPr>
                <a:xfrm flipH="1">
                  <a:off x="1897920" y="1654560"/>
                  <a:ext cx="642240" cy="359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H="1" flipV="1">
                  <a:off x="1256040" y="3638160"/>
                  <a:ext cx="2451960" cy="161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Line 10"/>
                <p:cNvSpPr/>
                <p:nvPr/>
              </p:nvSpPr>
              <p:spPr>
                <a:xfrm flipH="1">
                  <a:off x="1079640" y="5106600"/>
                  <a:ext cx="56520" cy="22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Line 11"/>
                <p:cNvSpPr/>
                <p:nvPr/>
              </p:nvSpPr>
              <p:spPr>
                <a:xfrm flipH="1">
                  <a:off x="2773440" y="5106600"/>
                  <a:ext cx="55080" cy="22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Line 12"/>
                <p:cNvSpPr/>
                <p:nvPr/>
              </p:nvSpPr>
              <p:spPr>
                <a:xfrm flipH="1">
                  <a:off x="2773440" y="2535480"/>
                  <a:ext cx="174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13"/>
                <p:cNvSpPr/>
                <p:nvPr/>
              </p:nvSpPr>
              <p:spPr>
                <a:xfrm flipH="1">
                  <a:off x="2715480" y="2390040"/>
                  <a:ext cx="17640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14"/>
                <p:cNvSpPr/>
                <p:nvPr/>
              </p:nvSpPr>
              <p:spPr>
                <a:xfrm flipH="1">
                  <a:off x="2832840" y="2682720"/>
                  <a:ext cx="174960" cy="7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15"/>
                <p:cNvSpPr/>
                <p:nvPr/>
              </p:nvSpPr>
              <p:spPr>
                <a:xfrm flipH="1">
                  <a:off x="3241080" y="4078440"/>
                  <a:ext cx="176400" cy="7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16"/>
                <p:cNvSpPr/>
                <p:nvPr/>
              </p:nvSpPr>
              <p:spPr>
                <a:xfrm flipH="1">
                  <a:off x="3299040" y="4225680"/>
                  <a:ext cx="176400" cy="8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17"/>
                <p:cNvSpPr/>
                <p:nvPr/>
              </p:nvSpPr>
              <p:spPr>
                <a:xfrm flipH="1">
                  <a:off x="3358080" y="4371480"/>
                  <a:ext cx="174600" cy="8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18"/>
                <p:cNvSpPr/>
                <p:nvPr/>
              </p:nvSpPr>
              <p:spPr>
                <a:xfrm>
                  <a:off x="1256400" y="3638160"/>
                  <a:ext cx="192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Line 19"/>
                <p:cNvSpPr/>
                <p:nvPr/>
              </p:nvSpPr>
              <p:spPr>
                <a:xfrm>
                  <a:off x="1256400" y="3638160"/>
                  <a:ext cx="641160" cy="161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20"/>
                <p:cNvSpPr/>
                <p:nvPr/>
              </p:nvSpPr>
              <p:spPr>
                <a:xfrm>
                  <a:off x="616320" y="4371480"/>
                  <a:ext cx="176400" cy="14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Line 21"/>
                <p:cNvSpPr/>
                <p:nvPr/>
              </p:nvSpPr>
              <p:spPr>
                <a:xfrm>
                  <a:off x="729360" y="4151520"/>
                  <a:ext cx="17640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>
                  <a:off x="1725120" y="2682720"/>
                  <a:ext cx="177840" cy="14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Line 23"/>
                <p:cNvSpPr/>
                <p:nvPr/>
              </p:nvSpPr>
              <p:spPr>
                <a:xfrm>
                  <a:off x="1841040" y="2535480"/>
                  <a:ext cx="177480" cy="14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Text Box 24"/>
                <p:cNvSpPr/>
                <p:nvPr/>
              </p:nvSpPr>
              <p:spPr>
                <a:xfrm>
                  <a:off x="554760" y="4959360"/>
                  <a:ext cx="29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Text Box 25"/>
                <p:cNvSpPr/>
                <p:nvPr/>
              </p:nvSpPr>
              <p:spPr>
                <a:xfrm>
                  <a:off x="2660040" y="3565080"/>
                  <a:ext cx="2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26"/>
                <p:cNvSpPr/>
                <p:nvPr/>
              </p:nvSpPr>
              <p:spPr>
                <a:xfrm>
                  <a:off x="1547280" y="3565080"/>
                  <a:ext cx="29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Text Box 27"/>
                <p:cNvSpPr/>
                <p:nvPr/>
              </p:nvSpPr>
              <p:spPr>
                <a:xfrm>
                  <a:off x="2423160" y="1874880"/>
                  <a:ext cx="29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Text Box 28"/>
                <p:cNvSpPr/>
                <p:nvPr/>
              </p:nvSpPr>
              <p:spPr>
                <a:xfrm>
                  <a:off x="1725120" y="4739040"/>
                  <a:ext cx="29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Text Box 29"/>
                <p:cNvSpPr/>
                <p:nvPr/>
              </p:nvSpPr>
              <p:spPr>
                <a:xfrm>
                  <a:off x="3417480" y="4813560"/>
                  <a:ext cx="288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Text Box 30"/>
                <p:cNvSpPr/>
                <p:nvPr/>
              </p:nvSpPr>
              <p:spPr>
                <a:xfrm>
                  <a:off x="1372320" y="3785400"/>
                  <a:ext cx="29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Text Box 31"/>
                <p:cNvSpPr/>
                <p:nvPr/>
              </p:nvSpPr>
              <p:spPr>
                <a:xfrm>
                  <a:off x="3124080" y="4959360"/>
                  <a:ext cx="29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cc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Text Box 33"/>
                <p:cNvSpPr/>
                <p:nvPr/>
              </p:nvSpPr>
              <p:spPr>
                <a:xfrm>
                  <a:off x="2366640" y="1214280"/>
                  <a:ext cx="29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cc"/>
                      </a:solidFill>
                      <a:latin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Text Box 34"/>
                <p:cNvSpPr/>
                <p:nvPr/>
              </p:nvSpPr>
              <p:spPr>
                <a:xfrm>
                  <a:off x="3708720" y="5106600"/>
                  <a:ext cx="29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cc"/>
                      </a:solidFill>
                      <a:latin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Text Box 35"/>
                <p:cNvSpPr/>
                <p:nvPr/>
              </p:nvSpPr>
              <p:spPr>
                <a:xfrm>
                  <a:off x="3241080" y="3343320"/>
                  <a:ext cx="4647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cc"/>
                      </a:solidFill>
                      <a:latin typeface="Times New Roman"/>
                    </a:rPr>
                    <a:t>A</a:t>
                  </a:r>
                  <a:r>
                    <a:rPr b="1" lang="en-US" sz="1800" spc="-1" strike="noStrike" baseline="-25000">
                      <a:solidFill>
                        <a:srgbClr val="9900cc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Text Box 36"/>
                <p:cNvSpPr/>
                <p:nvPr/>
              </p:nvSpPr>
              <p:spPr>
                <a:xfrm>
                  <a:off x="848160" y="3343320"/>
                  <a:ext cx="35280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cc"/>
                      </a:solidFill>
                      <a:latin typeface="Times New Roman"/>
                    </a:rPr>
                    <a:t>B</a:t>
                  </a:r>
                  <a:r>
                    <a:rPr b="1" lang="en-US" sz="1800" spc="-1" strike="noStrike" baseline="-25000">
                      <a:solidFill>
                        <a:srgbClr val="9900cc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Text Box 37"/>
                <p:cNvSpPr/>
                <p:nvPr/>
              </p:nvSpPr>
              <p:spPr>
                <a:xfrm>
                  <a:off x="1780560" y="5326920"/>
                  <a:ext cx="40932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cc"/>
                      </a:solidFill>
                      <a:latin typeface="Times New Roman"/>
                    </a:rPr>
                    <a:t>C</a:t>
                  </a:r>
                  <a:r>
                    <a:rPr b="1" lang="en-US" sz="1800" spc="-1" strike="noStrike" baseline="-25000">
                      <a:solidFill>
                        <a:srgbClr val="9900cc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Text Box 38"/>
                <p:cNvSpPr/>
                <p:nvPr/>
              </p:nvSpPr>
              <p:spPr>
                <a:xfrm>
                  <a:off x="2014920" y="4225680"/>
                  <a:ext cx="288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cc"/>
                      </a:solidFill>
                      <a:latin typeface="Times New Roman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348000" y="907920"/>
            <a:ext cx="579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Теорема. 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Каждая точка биссектрисы неразвернутого угла равноудалена от его стор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ано: 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C; AM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иссектриса (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=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KM-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ерпендикуляр к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; ML-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ерпендикуляр к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KM=K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ельство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M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общая гипотенуза, 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=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KM=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LM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 гипотенузе и острому углу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KM=KL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Каждая точка, лежащая внутри неразвернутого угла и равноудаленная от его сторон, лежит на биссектрисе этого угл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ано: 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C; KM-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ерпендикуляр к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; ML-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ерпендикуляр к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C; KM=K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ь: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M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иссектриса 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ельство: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M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общая гипотенуза,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KM=KL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KM=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LM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 гипотенузе и катету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=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2, то есть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M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иссектриса </a:t>
            </a:r>
            <a:r>
              <a:rPr b="1" lang="ru-RU" sz="2000" spc="-1" strike="noStrike">
                <a:solidFill>
                  <a:srgbClr val="000000"/>
                </a:solidFill>
                <a:latin typeface="SimSun"/>
                <a:ea typeface="SimSu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C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38120" y="-6480"/>
            <a:ext cx="802944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Line 18"/>
          <p:cNvSpPr/>
          <p:nvPr/>
        </p:nvSpPr>
        <p:spPr>
          <a:xfrm>
            <a:off x="971640" y="342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9"/>
          <p:cNvSpPr/>
          <p:nvPr/>
        </p:nvSpPr>
        <p:spPr>
          <a:xfrm flipV="1">
            <a:off x="971640" y="1700280"/>
            <a:ext cx="172872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20"/>
          <p:cNvSpPr/>
          <p:nvPr/>
        </p:nvSpPr>
        <p:spPr>
          <a:xfrm>
            <a:off x="971640" y="342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1"/>
          <p:cNvSpPr/>
          <p:nvPr/>
        </p:nvSpPr>
        <p:spPr>
          <a:xfrm flipH="1">
            <a:off x="1692000" y="3429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3"/>
          <p:cNvSpPr/>
          <p:nvPr/>
        </p:nvSpPr>
        <p:spPr>
          <a:xfrm flipH="1" flipV="1">
            <a:off x="1692000" y="270828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27"/>
          <p:cNvSpPr/>
          <p:nvPr/>
        </p:nvSpPr>
        <p:spPr>
          <a:xfrm>
            <a:off x="53964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8"/>
          <p:cNvSpPr/>
          <p:nvPr/>
        </p:nvSpPr>
        <p:spPr>
          <a:xfrm>
            <a:off x="2124000" y="134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9"/>
          <p:cNvSpPr/>
          <p:nvPr/>
        </p:nvSpPr>
        <p:spPr>
          <a:xfrm>
            <a:off x="205092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30"/>
          <p:cNvSpPr/>
          <p:nvPr/>
        </p:nvSpPr>
        <p:spPr>
          <a:xfrm>
            <a:off x="1258920" y="213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1"/>
          <p:cNvSpPr/>
          <p:nvPr/>
        </p:nvSpPr>
        <p:spPr>
          <a:xfrm>
            <a:off x="1403280" y="4292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2"/>
          <p:cNvSpPr/>
          <p:nvPr/>
        </p:nvSpPr>
        <p:spPr>
          <a:xfrm>
            <a:off x="2340000" y="342900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3"/>
          <p:cNvSpPr/>
          <p:nvPr/>
        </p:nvSpPr>
        <p:spPr>
          <a:xfrm>
            <a:off x="2268360" y="342900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34"/>
          <p:cNvSpPr/>
          <p:nvPr/>
        </p:nvSpPr>
        <p:spPr>
          <a:xfrm>
            <a:off x="118728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35"/>
          <p:cNvSpPr/>
          <p:nvPr/>
        </p:nvSpPr>
        <p:spPr>
          <a:xfrm flipH="1">
            <a:off x="1186920" y="342900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37"/>
          <p:cNvSpPr/>
          <p:nvPr/>
        </p:nvSpPr>
        <p:spPr>
          <a:xfrm>
            <a:off x="1187280" y="3213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38"/>
          <p:cNvSpPr/>
          <p:nvPr/>
        </p:nvSpPr>
        <p:spPr>
          <a:xfrm>
            <a:off x="1547640" y="285264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39"/>
          <p:cNvSpPr/>
          <p:nvPr/>
        </p:nvSpPr>
        <p:spPr>
          <a:xfrm flipV="1">
            <a:off x="1692360" y="2852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0"/>
          <p:cNvSpPr/>
          <p:nvPr/>
        </p:nvSpPr>
        <p:spPr>
          <a:xfrm flipV="1">
            <a:off x="1547640" y="386064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1"/>
          <p:cNvSpPr/>
          <p:nvPr/>
        </p:nvSpPr>
        <p:spPr>
          <a:xfrm>
            <a:off x="169236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2"/>
          <p:cNvSpPr/>
          <p:nvPr/>
        </p:nvSpPr>
        <p:spPr>
          <a:xfrm>
            <a:off x="1332000" y="306864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3"/>
          <p:cNvSpPr/>
          <p:nvPr/>
        </p:nvSpPr>
        <p:spPr>
          <a:xfrm>
            <a:off x="1187280" y="3032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4"/>
          <p:cNvSpPr/>
          <p:nvPr/>
        </p:nvSpPr>
        <p:spPr>
          <a:xfrm>
            <a:off x="1187280" y="3429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268000" y="907920"/>
            <a:ext cx="68756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O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пределение. </a:t>
            </a: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Серединный перпендикуляр-прямая, проходящая через середину отрезка и перпендикулярная к нему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Каждая точка серединного перпендикуляра к отрезку равноудалена от концов этого отрезк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Дано: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-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ередина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AB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m–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ерединный перпендикуляр к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B, M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надлежит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Доказать:</a:t>
            </a: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M=MB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Доказательство: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1)Если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овпадает с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,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то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M=MB=AO=BO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O=OB –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катеты,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O –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общий катет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MO=</a:t>
            </a:r>
            <a:r>
              <a:rPr b="1" lang="el-GR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BMO-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о двум катетам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M=MB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. </a:t>
            </a: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Каждая точка, равноудаленная от концов отрезка, лежит на серединном перпендикуляре к нему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Дано: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-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ередина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AB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m–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ерединный перпендикуляр к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B, AM=MB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Доказать: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надлежит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Доказательство: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1)Если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лежит на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AB,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то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M=MB=AO=BO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, и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ринадлежит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m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M=MB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l-GR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MB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равнобедренный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O-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медиана и высота </a:t>
            </a:r>
            <a:r>
              <a:rPr b="1" lang="el-GR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 Unicode MS"/>
              </a:rPr>
              <a:t>AMB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O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совпадает с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m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и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надлежит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-176040" y="-60480"/>
            <a:ext cx="93265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447" name="Group 32"/>
          <p:cNvGrpSpPr/>
          <p:nvPr/>
        </p:nvGrpSpPr>
        <p:grpSpPr>
          <a:xfrm>
            <a:off x="0" y="836640"/>
            <a:ext cx="2376360" cy="6021000"/>
            <a:chOff x="0" y="836640"/>
            <a:chExt cx="2376360" cy="6021000"/>
          </a:xfrm>
        </p:grpSpPr>
        <p:sp>
          <p:nvSpPr>
            <p:cNvPr id="448" name="Line 4"/>
            <p:cNvSpPr/>
            <p:nvPr/>
          </p:nvSpPr>
          <p:spPr>
            <a:xfrm>
              <a:off x="1224000" y="836640"/>
              <a:ext cx="0" cy="24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5"/>
            <p:cNvSpPr/>
            <p:nvPr/>
          </p:nvSpPr>
          <p:spPr>
            <a:xfrm>
              <a:off x="503280" y="287064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6"/>
            <p:cNvSpPr/>
            <p:nvPr/>
          </p:nvSpPr>
          <p:spPr>
            <a:xfrm flipH="1">
              <a:off x="863280" y="2707560"/>
              <a:ext cx="7308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 flipH="1">
              <a:off x="1510920" y="2707560"/>
              <a:ext cx="7308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 flipH="1">
              <a:off x="503280" y="1163160"/>
              <a:ext cx="720720" cy="17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1224000" y="1163160"/>
              <a:ext cx="718920" cy="17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0"/>
            <p:cNvSpPr/>
            <p:nvPr/>
          </p:nvSpPr>
          <p:spPr>
            <a:xfrm>
              <a:off x="1224000" y="27075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1"/>
            <p:cNvSpPr/>
            <p:nvPr/>
          </p:nvSpPr>
          <p:spPr>
            <a:xfrm>
              <a:off x="1366920" y="2707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2"/>
            <p:cNvSpPr/>
            <p:nvPr/>
          </p:nvSpPr>
          <p:spPr>
            <a:xfrm>
              <a:off x="1224000" y="3683160"/>
              <a:ext cx="0" cy="31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13"/>
            <p:cNvSpPr/>
            <p:nvPr/>
          </p:nvSpPr>
          <p:spPr>
            <a:xfrm>
              <a:off x="503280" y="571680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6"/>
            <p:cNvSpPr/>
            <p:nvPr/>
          </p:nvSpPr>
          <p:spPr>
            <a:xfrm flipH="1">
              <a:off x="503280" y="4009320"/>
              <a:ext cx="720720" cy="17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1224000" y="4009320"/>
              <a:ext cx="718920" cy="17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20"/>
            <p:cNvSpPr/>
            <p:nvPr/>
          </p:nvSpPr>
          <p:spPr>
            <a:xfrm flipH="1">
              <a:off x="1510920" y="4823640"/>
              <a:ext cx="14436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1"/>
            <p:cNvSpPr/>
            <p:nvPr/>
          </p:nvSpPr>
          <p:spPr>
            <a:xfrm>
              <a:off x="790560" y="4823640"/>
              <a:ext cx="14436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22"/>
            <p:cNvSpPr/>
            <p:nvPr/>
          </p:nvSpPr>
          <p:spPr>
            <a:xfrm>
              <a:off x="1295280" y="2953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Text Box 23"/>
            <p:cNvSpPr/>
            <p:nvPr/>
          </p:nvSpPr>
          <p:spPr>
            <a:xfrm>
              <a:off x="2016000" y="254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24"/>
            <p:cNvSpPr/>
            <p:nvPr/>
          </p:nvSpPr>
          <p:spPr>
            <a:xfrm>
              <a:off x="0" y="254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718920" y="83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26"/>
            <p:cNvSpPr/>
            <p:nvPr/>
          </p:nvSpPr>
          <p:spPr>
            <a:xfrm>
              <a:off x="790560" y="30193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27"/>
            <p:cNvSpPr/>
            <p:nvPr/>
          </p:nvSpPr>
          <p:spPr>
            <a:xfrm>
              <a:off x="1224000" y="5636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28"/>
            <p:cNvSpPr/>
            <p:nvPr/>
          </p:nvSpPr>
          <p:spPr>
            <a:xfrm>
              <a:off x="1871640" y="5636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29"/>
            <p:cNvSpPr/>
            <p:nvPr/>
          </p:nvSpPr>
          <p:spPr>
            <a:xfrm>
              <a:off x="142920" y="5555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30"/>
            <p:cNvSpPr/>
            <p:nvPr/>
          </p:nvSpPr>
          <p:spPr>
            <a:xfrm>
              <a:off x="1295280" y="3765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Text Box 31"/>
            <p:cNvSpPr/>
            <p:nvPr/>
          </p:nvSpPr>
          <p:spPr>
            <a:xfrm>
              <a:off x="1224000" y="6369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85" descr="21"/>
          <p:cNvPicPr/>
          <p:nvPr/>
        </p:nvPicPr>
        <p:blipFill>
          <a:blip r:embed="rId1"/>
          <a:stretch/>
        </p:blipFill>
        <p:spPr>
          <a:xfrm>
            <a:off x="0" y="1268280"/>
            <a:ext cx="4321080" cy="3781440"/>
          </a:xfrm>
          <a:prstGeom prst="rect">
            <a:avLst/>
          </a:prstGeom>
          <a:ln w="0">
            <a:noFill/>
          </a:ln>
        </p:spPr>
      </p:pic>
      <p:pic>
        <p:nvPicPr>
          <p:cNvPr id="473" name="Rectangle 2" descr=""/>
          <p:cNvPicPr/>
          <p:nvPr/>
        </p:nvPicPr>
        <p:blipFill>
          <a:blip r:embed="rId2"/>
          <a:stretch/>
        </p:blipFill>
        <p:spPr>
          <a:xfrm>
            <a:off x="-208080" y="-6480"/>
            <a:ext cx="9504360" cy="11588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4356000" y="1196640"/>
            <a:ext cx="4788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Биссектрисы треугольника пересекаются в одной точк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ано: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C, 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иссектрисы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= 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ельство: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= O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тогда если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K, OM, OL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ерпендикуляры из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 сторонам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C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K=OM, OK=OL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 свойству биссектрисы неразвернутого угла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OL=OM → O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равноудалена от сторон угла АСВ, и значит, лежит на биссектрисе С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этого угл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→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= O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21"/>
          <p:cNvPicPr/>
          <p:nvPr/>
        </p:nvPicPr>
        <p:blipFill>
          <a:blip r:embed="rId1"/>
          <a:stretch/>
        </p:blipFill>
        <p:spPr>
          <a:xfrm>
            <a:off x="0" y="1319040"/>
            <a:ext cx="3541680" cy="3753000"/>
          </a:xfrm>
          <a:prstGeom prst="rect">
            <a:avLst/>
          </a:prstGeom>
          <a:ln w="0">
            <a:noFill/>
          </a:ln>
        </p:spPr>
      </p:pic>
      <p:pic>
        <p:nvPicPr>
          <p:cNvPr id="476" name="Rectangle 5" descr=""/>
          <p:cNvPicPr/>
          <p:nvPr/>
        </p:nvPicPr>
        <p:blipFill>
          <a:blip r:embed="rId2"/>
          <a:stretch/>
        </p:blipFill>
        <p:spPr>
          <a:xfrm>
            <a:off x="-152280" y="66600"/>
            <a:ext cx="9302760" cy="10857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3571920" y="1267920"/>
            <a:ext cx="5572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.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Lucida Sans Unicode"/>
              </a:rPr>
              <a:t>Серединные перпендикуляры к сторонам треугольника пересекаются в одной точк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Lucida Sans Unicode"/>
              </a:rPr>
              <a:t>Дано:</a:t>
            </a:r>
            <a:r>
              <a:rPr b="1" i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l-GR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ABC, m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-серединный перпендикуляр к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AB, n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-серединный перпендикуляр к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BC, p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-серединный перпендикуляр к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AC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Lucida Sans Unicode"/>
              </a:rPr>
              <a:t>Доказать: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en-US" sz="19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 = O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Lucida Sans Unicode"/>
              </a:rPr>
              <a:t>Доказательство:</a:t>
            </a:r>
            <a:r>
              <a:rPr b="1" i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en-US" sz="19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n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O,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т.к. если предположить, что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 параллельна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n,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то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 перпендикулярна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BC,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и через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B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проходят 2 прямые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AB, BC,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перпендикулярные к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,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чего не может быть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По свойству серединного перпендикуляра к отрезку,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OA=OB, OB=OC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OA=OC →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O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лежит на серединном перпендикуляре к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AC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т.е. на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en-US" sz="19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=O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4" descr="21"/>
          <p:cNvPicPr/>
          <p:nvPr/>
        </p:nvPicPr>
        <p:blipFill>
          <a:blip r:embed="rId1"/>
          <a:stretch/>
        </p:blipFill>
        <p:spPr>
          <a:xfrm>
            <a:off x="0" y="1916280"/>
            <a:ext cx="3571920" cy="3528720"/>
          </a:xfrm>
          <a:prstGeom prst="rect">
            <a:avLst/>
          </a:prstGeom>
          <a:ln w="0">
            <a:noFill/>
          </a:ln>
        </p:spPr>
      </p:pic>
      <p:pic>
        <p:nvPicPr>
          <p:cNvPr id="479" name="Rectangle 5" descr=""/>
          <p:cNvPicPr/>
          <p:nvPr/>
        </p:nvPicPr>
        <p:blipFill>
          <a:blip r:embed="rId2"/>
          <a:stretch/>
        </p:blipFill>
        <p:spPr>
          <a:xfrm>
            <a:off x="476280" y="-133200"/>
            <a:ext cx="7991280" cy="13096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3571920" y="856800"/>
            <a:ext cx="5572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еорема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Прямые, на которых лежат высоты треугольника, пересекаются в одной точк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ано: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C, 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ысоты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ь: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= O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оказательство: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роведем через каждую вершину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C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рямую, параллельную противоположной стороне. Получим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=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,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=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,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=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и по построению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 перпендикуляры к сторонам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 серединные перпендикуляры к сторонам </a:t>
            </a:r>
            <a:r>
              <a:rPr b="1" lang="el-G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SimSun"/>
                <a:ea typeface="SimSun"/>
              </a:rPr>
              <a:t>∩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= O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Сегодня на уроке мы исследовали четыре замечательных точек треугольника. Доказали свойство биссектрисы угла, серединного перпендикуляра, а так же доказали теоремы о высотах и медианах в треугольнике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сюша</dc:creator>
  <dc:description/>
  <dc:language>en-US</dc:language>
  <cp:lastModifiedBy>Ксюша</cp:lastModifiedBy>
  <dcterms:modified xsi:type="dcterms:W3CDTF">2011-05-17T17:02:48Z</dcterms:modified>
  <cp:revision>151</cp:revision>
  <dc:subject/>
  <dc:title>PowerPoint Presentation</dc:title>
</cp:coreProperties>
</file>